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D79-663E-44FD-A942-BE014DB3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CDC-0CFE-4CB5-9AD4-958C97AA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F133-F49E-4909-8EA0-93CE9ABA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A97-CBED-4F59-A7EC-95E60CE0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9EC0-9A63-4D34-8B7B-176221F8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8EC5-3300-4BAA-81C8-8AA6352F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11DD-CC88-4532-9B90-11BE2D58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5CBA-C536-41D2-B172-74A4F3C8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C1FA-C639-4A69-879D-DE4097A4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7FEB-AEED-4477-AC55-9DB51639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4E38-D205-42DC-9F68-1749F378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BC5-CC6A-4902-B503-D9ACFB4C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0DAD-15F6-4D39-BA3A-E438ECB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711F-A463-4725-8ED9-B4F48113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F367-B488-490A-83F9-26C67A2E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C8D8-BC2E-468C-AC66-E13890EE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492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98560" y="130608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492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98560" y="3812760"/>
            <a:ext cx="27079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A702-B6CA-451E-83DD-E8519E47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570-9B11-4629-A9CD-D54CBE09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E8A-C91F-41E0-B9B5-FDA3FC48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599-24A5-44E7-ADF7-1E4F3F95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79800"/>
            <a:ext cx="842508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3DD-B7D4-42B4-9049-9E64C135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0EE-9D8E-4D46-998A-7A2BA68B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0840" y="381276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A7D-CBCF-4BD2-A3E9-F2ABA16E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0840" y="1306080"/>
            <a:ext cx="41040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3812760"/>
            <a:ext cx="8410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C41-2B9D-4BAD-917E-B56771D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44600" y="6276960"/>
            <a:ext cx="491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5120" y="6286680"/>
            <a:ext cx="125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F3B1-421A-4CB6-A2B9-9233EA911A20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5120" y="6286680"/>
            <a:ext cx="6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A57A-70E1-4C0F-95F5-1DC5D278A6F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850680"/>
            <a:ext cx="7678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3777-6348-4E5B-818D-396BCD490BE5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01CA-23EB-4786-96B7-67E22D68ECB6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760" y="66438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1865880"/>
            <a:ext cx="8615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4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952560" y="3243240"/>
            <a:ext cx="738036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yes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yes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FB88-E6A8-4EA6-9289-83F5E4AA58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46120" y="3530520"/>
            <a:ext cx="8356680" cy="142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ayes Formul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33320" y="1857240"/>
                <a:ext cx="7934400" cy="308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ikelihood 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io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videnc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2A8-2613-4E77-BB29-A33FE6BEF7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Normaliza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38120" y="1628640"/>
                <a:ext cx="605484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6AC-ACC9-4A78-B808-A3C1520F6A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ndition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 of total probabilit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36560" y="2209680"/>
                <a:ext cx="548496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8F3-EA4E-493D-983A-E328CA0C800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425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ayes Rule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with Background Knowledg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74720" y="4221000"/>
                <a:ext cx="5238720" cy="11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54080" y="1855800"/>
            <a:ext cx="4362480" cy="14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2B8-D3A9-4C93-B3ED-BD0AA9EA32F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4150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Simple Example of State Estimation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0080" y="1333440"/>
            <a:ext cx="84139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se a robot obtains measuremen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open|z)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28760" y="2724120"/>
            <a:ext cx="648504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66F-C66D-42DE-901C-7B22D3E148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Causal vs. Diagnostic Reasoning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(open|z)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diagnost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(z|open)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caus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ten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caus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knowledge is easier to obt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yes rule allows us to use causal knowledg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30400" y="4778280"/>
                <a:ext cx="567684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en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2679840" y="2413080"/>
            <a:ext cx="5752080" cy="2425680"/>
            <a:chOff x="2679840" y="2413080"/>
            <a:chExt cx="5752080" cy="2425680"/>
          </a:xfrm>
        </p:grpSpPr>
        <p:sp>
          <p:nvSpPr>
            <p:cNvPr id="146" name=""/>
            <p:cNvSpPr/>
            <p:nvPr/>
          </p:nvSpPr>
          <p:spPr>
            <a:xfrm>
              <a:off x="4945680" y="3054240"/>
              <a:ext cx="348624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33cc"/>
                  </a:solidFill>
                  <a:latin typeface="Verdana"/>
                </a:rPr>
                <a:t>count frequencies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679840" y="2413080"/>
              <a:ext cx="2006640" cy="6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245200" y="3657600"/>
              <a:ext cx="1257120" cy="118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030-D12A-45CB-9814-70905FF135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xampl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306440"/>
            <a:ext cx="84103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z|open) = 0.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z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open) = 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03440" y="2689200"/>
                <a:ext cx="808164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865800" y="5100480"/>
            <a:ext cx="78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ise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probability that the door is open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E71-B0CA-4B3E-9222-83E5E2129F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mbining Evidence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se our robot obtains another observ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can we integrate this new informatio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generally, how can we estimat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(x| 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..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B4D-68F2-4020-B871-7C8B091E98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cursive Bayesian Updating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28600" y="1339920"/>
                <a:ext cx="68756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250920" y="2479680"/>
            <a:ext cx="8793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Markov assump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...,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we know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076400" y="3443400"/>
                <a:ext cx="6418080" cy="26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n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n</m:t>
                            </m:r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5E6-3689-4548-A3CC-5BB08A6BE0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Example: Second Measurement 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080" y="1472760"/>
            <a:ext cx="8413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open) = 0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) = 0.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open|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=2/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30080" y="2603520"/>
            <a:ext cx="841392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85720" y="2798640"/>
                <a:ext cx="846288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725760" y="5456160"/>
            <a:ext cx="810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cc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ers the probability that the door is open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117-F490-4898-AE19-A470D093AA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Probabilistic Robotic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idea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icit representation of uncertainty using the calculus of probability the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1800" indent="-44460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cep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state esti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1800" indent="-444600">
              <a:spcBef>
                <a:spcPts val="799"/>
              </a:spcBef>
              <a:buClr>
                <a:srgbClr val="0033cc"/>
              </a:buClr>
              <a:buFont typeface="Verdana"/>
              <a:buChar char="•"/>
              <a:tabLst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tion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 utility optim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089-E33E-47E6-853F-9FAD170BA4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Action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ten the world is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dyna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i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ctions carried out by the rob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ctions carried out by other agen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just the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ssing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nge the worl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can we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incorporat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ch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actio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97C-E8D8-45F6-9BC1-C6B69C59AF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Typical Action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bot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turns its wheel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mo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bot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uses its manipulat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grasp an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s grow over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 are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never carried out with absolute certain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ontrast to measurements, 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ctions generally increase the uncertain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AE7-45D7-454A-9EDD-31CE972F28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Modeling Action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1439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incorporate the outcome of an action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to the current “belief”, we use the conditional pdf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P(x|u,x’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term specifies the pdf that 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executing </a:t>
            </a: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u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changes the state from </a:t>
            </a: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x’ to x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49C-A740-4D85-8969-DE9544D587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Example: Closing the door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43040" y="371484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657440" y="1885680"/>
            <a:ext cx="5871960" cy="4306680"/>
            <a:chOff x="1657440" y="1885680"/>
            <a:chExt cx="5871960" cy="4306680"/>
          </a:xfrm>
        </p:grpSpPr>
        <p:grpSp>
          <p:nvGrpSpPr>
            <p:cNvPr id="173" name=""/>
            <p:cNvGrpSpPr/>
            <p:nvPr/>
          </p:nvGrpSpPr>
          <p:grpSpPr>
            <a:xfrm>
              <a:off x="1657440" y="1885680"/>
              <a:ext cx="5871960" cy="4306680"/>
              <a:chOff x="1657440" y="1885680"/>
              <a:chExt cx="5871960" cy="4306680"/>
            </a:xfrm>
          </p:grpSpPr>
          <p:sp>
            <p:nvSpPr>
              <p:cNvPr id="174" name=""/>
              <p:cNvSpPr/>
              <p:nvPr/>
            </p:nvSpPr>
            <p:spPr>
              <a:xfrm>
                <a:off x="1657440" y="1886040"/>
                <a:ext cx="5871960" cy="4304880"/>
              </a:xfrm>
              <a:custGeom>
                <a:avLst/>
                <a:gdLst/>
                <a:ahLst/>
                <a:rect l="l" t="t" r="r" b="b"/>
                <a:pathLst>
                  <a:path w="14798" h="10845">
                    <a:moveTo>
                      <a:pt x="0" y="10845"/>
                    </a:moveTo>
                    <a:lnTo>
                      <a:pt x="0" y="2218"/>
                    </a:lnTo>
                    <a:lnTo>
                      <a:pt x="14798" y="0"/>
                    </a:lnTo>
                    <a:lnTo>
                      <a:pt x="14798" y="10845"/>
                    </a:lnTo>
                    <a:lnTo>
                      <a:pt x="0" y="10845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57440" y="1886040"/>
                <a:ext cx="5871960" cy="4304880"/>
              </a:xfrm>
              <a:custGeom>
                <a:avLst/>
                <a:gdLst/>
                <a:ahLst/>
                <a:rect l="l" t="t" r="r" b="b"/>
                <a:pathLst>
                  <a:path w="14798" h="10845">
                    <a:moveTo>
                      <a:pt x="0" y="10845"/>
                    </a:moveTo>
                    <a:lnTo>
                      <a:pt x="0" y="2218"/>
                    </a:lnTo>
                    <a:lnTo>
                      <a:pt x="14798" y="0"/>
                    </a:lnTo>
                    <a:lnTo>
                      <a:pt x="14798" y="10845"/>
                    </a:lnTo>
                    <a:lnTo>
                      <a:pt x="0" y="1084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9960" y="2766960"/>
                <a:ext cx="1956960" cy="3423600"/>
              </a:xfrm>
              <a:custGeom>
                <a:avLst/>
                <a:gdLst/>
                <a:ahLst/>
                <a:rect l="l" t="t" r="r" b="b"/>
                <a:pathLst>
                  <a:path w="4933" h="8627">
                    <a:moveTo>
                      <a:pt x="0" y="617"/>
                    </a:moveTo>
                    <a:lnTo>
                      <a:pt x="4933" y="0"/>
                    </a:lnTo>
                    <a:lnTo>
                      <a:pt x="4933" y="8627"/>
                    </a:lnTo>
                    <a:lnTo>
                      <a:pt x="0" y="6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69960" y="2766960"/>
                <a:ext cx="1956960" cy="3423600"/>
              </a:xfrm>
              <a:custGeom>
                <a:avLst/>
                <a:gdLst/>
                <a:ahLst/>
                <a:rect l="l" t="t" r="r" b="b"/>
                <a:pathLst>
                  <a:path w="4933" h="8627">
                    <a:moveTo>
                      <a:pt x="0" y="617"/>
                    </a:moveTo>
                    <a:lnTo>
                      <a:pt x="4933" y="0"/>
                    </a:lnTo>
                    <a:lnTo>
                      <a:pt x="4933" y="862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69960" y="2912760"/>
                <a:ext cx="1712520" cy="3277800"/>
              </a:xfrm>
              <a:custGeom>
                <a:avLst/>
                <a:gdLst/>
                <a:ahLst/>
                <a:rect l="l" t="t" r="r" b="b"/>
                <a:pathLst>
                  <a:path w="4316" h="8257">
                    <a:moveTo>
                      <a:pt x="0" y="8257"/>
                    </a:moveTo>
                    <a:lnTo>
                      <a:pt x="0" y="247"/>
                    </a:lnTo>
                    <a:lnTo>
                      <a:pt x="4316" y="0"/>
                    </a:lnTo>
                    <a:lnTo>
                      <a:pt x="4316" y="8257"/>
                    </a:lnTo>
                    <a:lnTo>
                      <a:pt x="0" y="8257"/>
                    </a:lnTo>
                    <a:close/>
                  </a:path>
                </a:pathLst>
              </a:custGeom>
              <a:solidFill>
                <a:srgbClr val="be5f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57440" y="6190920"/>
                <a:ext cx="5871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657440" y="1885680"/>
                <a:ext cx="5871960" cy="880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948040" y="3892320"/>
              <a:ext cx="2074320" cy="2296440"/>
              <a:chOff x="2948040" y="3892320"/>
              <a:chExt cx="2074320" cy="2296440"/>
            </a:xfrm>
          </p:grpSpPr>
          <p:sp>
            <p:nvSpPr>
              <p:cNvPr id="182" name=""/>
              <p:cNvSpPr/>
              <p:nvPr/>
            </p:nvSpPr>
            <p:spPr>
              <a:xfrm>
                <a:off x="3563640" y="4031640"/>
                <a:ext cx="53640" cy="110520"/>
              </a:xfrm>
              <a:prstGeom prst="rect">
                <a:avLst/>
              </a:prstGeom>
              <a:solidFill>
                <a:srgbClr val="0000ff"/>
              </a:solidFill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06760" y="3975840"/>
                <a:ext cx="333000" cy="55440"/>
              </a:xfrm>
              <a:prstGeom prst="rect">
                <a:avLst/>
              </a:prstGeom>
              <a:solidFill>
                <a:srgbClr val="0000ff"/>
              </a:solidFill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86120" y="3892320"/>
                <a:ext cx="109080" cy="221760"/>
              </a:xfrm>
              <a:custGeom>
                <a:avLst/>
                <a:gdLst/>
                <a:ahLst/>
                <a:rect l="l" t="t" r="r" b="b"/>
                <a:pathLst>
                  <a:path w="280" h="559">
                    <a:moveTo>
                      <a:pt x="0" y="279"/>
                    </a:moveTo>
                    <a:lnTo>
                      <a:pt x="280" y="0"/>
                    </a:lnTo>
                    <a:lnTo>
                      <a:pt x="280" y="559"/>
                    </a:lnTo>
                    <a:lnTo>
                      <a:pt x="0" y="27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86120" y="3892320"/>
                <a:ext cx="109080" cy="221760"/>
              </a:xfrm>
              <a:custGeom>
                <a:avLst/>
                <a:gdLst/>
                <a:ahLst/>
                <a:rect l="l" t="t" r="r" b="b"/>
                <a:pathLst>
                  <a:path w="280" h="559">
                    <a:moveTo>
                      <a:pt x="0" y="279"/>
                    </a:moveTo>
                    <a:lnTo>
                      <a:pt x="280" y="0"/>
                    </a:lnTo>
                    <a:lnTo>
                      <a:pt x="280" y="559"/>
                    </a:lnTo>
                    <a:lnTo>
                      <a:pt x="0" y="279"/>
                    </a:ln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02040" y="4245840"/>
                <a:ext cx="942480" cy="704520"/>
              </a:xfrm>
              <a:custGeom>
                <a:avLst/>
                <a:gdLst/>
                <a:ahLst/>
                <a:rect l="l" t="t" r="r" b="b"/>
                <a:pathLst>
                  <a:path w="2376" h="1777">
                    <a:moveTo>
                      <a:pt x="0" y="1777"/>
                    </a:moveTo>
                    <a:lnTo>
                      <a:pt x="781" y="0"/>
                    </a:lnTo>
                    <a:lnTo>
                      <a:pt x="2376" y="526"/>
                    </a:lnTo>
                  </a:path>
                </a:pathLst>
              </a:custGeom>
              <a:noFill/>
              <a:ln w="81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49480" y="4131720"/>
                <a:ext cx="1248840" cy="1250280"/>
              </a:xfrm>
              <a:custGeom>
                <a:avLst/>
                <a:gdLst/>
                <a:ahLst/>
                <a:rect l="l" t="t" r="r" b="b"/>
                <a:pathLst>
                  <a:path w="3145" h="3149">
                    <a:moveTo>
                      <a:pt x="3145" y="1574"/>
                    </a:moveTo>
                    <a:lnTo>
                      <a:pt x="3145" y="1602"/>
                    </a:lnTo>
                    <a:lnTo>
                      <a:pt x="3145" y="1629"/>
                    </a:lnTo>
                    <a:lnTo>
                      <a:pt x="3143" y="1656"/>
                    </a:lnTo>
                    <a:lnTo>
                      <a:pt x="3141" y="1684"/>
                    </a:lnTo>
                    <a:lnTo>
                      <a:pt x="3139" y="1712"/>
                    </a:lnTo>
                    <a:lnTo>
                      <a:pt x="3137" y="1739"/>
                    </a:lnTo>
                    <a:lnTo>
                      <a:pt x="3133" y="1766"/>
                    </a:lnTo>
                    <a:lnTo>
                      <a:pt x="3130" y="1794"/>
                    </a:lnTo>
                    <a:lnTo>
                      <a:pt x="3125" y="1821"/>
                    </a:lnTo>
                    <a:lnTo>
                      <a:pt x="3121" y="1848"/>
                    </a:lnTo>
                    <a:lnTo>
                      <a:pt x="3116" y="1875"/>
                    </a:lnTo>
                    <a:lnTo>
                      <a:pt x="3111" y="1902"/>
                    </a:lnTo>
                    <a:lnTo>
                      <a:pt x="3105" y="1929"/>
                    </a:lnTo>
                    <a:lnTo>
                      <a:pt x="3098" y="1956"/>
                    </a:lnTo>
                    <a:lnTo>
                      <a:pt x="3092" y="1982"/>
                    </a:lnTo>
                    <a:lnTo>
                      <a:pt x="3084" y="2010"/>
                    </a:lnTo>
                    <a:lnTo>
                      <a:pt x="3076" y="2035"/>
                    </a:lnTo>
                    <a:lnTo>
                      <a:pt x="3068" y="2063"/>
                    </a:lnTo>
                    <a:lnTo>
                      <a:pt x="3059" y="2088"/>
                    </a:lnTo>
                    <a:lnTo>
                      <a:pt x="3050" y="2114"/>
                    </a:lnTo>
                    <a:lnTo>
                      <a:pt x="3040" y="2140"/>
                    </a:lnTo>
                    <a:lnTo>
                      <a:pt x="3029" y="2166"/>
                    </a:lnTo>
                    <a:lnTo>
                      <a:pt x="3019" y="2191"/>
                    </a:lnTo>
                    <a:lnTo>
                      <a:pt x="3009" y="2216"/>
                    </a:lnTo>
                    <a:lnTo>
                      <a:pt x="2997" y="2241"/>
                    </a:lnTo>
                    <a:lnTo>
                      <a:pt x="2985" y="2266"/>
                    </a:lnTo>
                    <a:lnTo>
                      <a:pt x="2973" y="2291"/>
                    </a:lnTo>
                    <a:lnTo>
                      <a:pt x="2960" y="2315"/>
                    </a:lnTo>
                    <a:lnTo>
                      <a:pt x="2947" y="2339"/>
                    </a:lnTo>
                    <a:lnTo>
                      <a:pt x="2934" y="2364"/>
                    </a:lnTo>
                    <a:lnTo>
                      <a:pt x="2919" y="2387"/>
                    </a:lnTo>
                    <a:lnTo>
                      <a:pt x="2905" y="2410"/>
                    </a:lnTo>
                    <a:lnTo>
                      <a:pt x="2890" y="2434"/>
                    </a:lnTo>
                    <a:lnTo>
                      <a:pt x="2875" y="2457"/>
                    </a:lnTo>
                    <a:lnTo>
                      <a:pt x="2859" y="2479"/>
                    </a:lnTo>
                    <a:lnTo>
                      <a:pt x="2843" y="2502"/>
                    </a:lnTo>
                    <a:lnTo>
                      <a:pt x="2826" y="2524"/>
                    </a:lnTo>
                    <a:lnTo>
                      <a:pt x="2809" y="2546"/>
                    </a:lnTo>
                    <a:lnTo>
                      <a:pt x="2793" y="2567"/>
                    </a:lnTo>
                    <a:lnTo>
                      <a:pt x="2776" y="2589"/>
                    </a:lnTo>
                    <a:lnTo>
                      <a:pt x="2758" y="2610"/>
                    </a:lnTo>
                    <a:lnTo>
                      <a:pt x="2740" y="2630"/>
                    </a:lnTo>
                    <a:lnTo>
                      <a:pt x="2720" y="2651"/>
                    </a:lnTo>
                    <a:lnTo>
                      <a:pt x="2702" y="2670"/>
                    </a:lnTo>
                    <a:lnTo>
                      <a:pt x="2683" y="2690"/>
                    </a:lnTo>
                    <a:lnTo>
                      <a:pt x="2662" y="2709"/>
                    </a:lnTo>
                    <a:lnTo>
                      <a:pt x="2643" y="2729"/>
                    </a:lnTo>
                    <a:lnTo>
                      <a:pt x="2622" y="2747"/>
                    </a:lnTo>
                    <a:lnTo>
                      <a:pt x="2601" y="2765"/>
                    </a:lnTo>
                    <a:lnTo>
                      <a:pt x="2580" y="2783"/>
                    </a:lnTo>
                    <a:lnTo>
                      <a:pt x="2560" y="2800"/>
                    </a:lnTo>
                    <a:lnTo>
                      <a:pt x="2538" y="2818"/>
                    </a:lnTo>
                    <a:lnTo>
                      <a:pt x="2516" y="2835"/>
                    </a:lnTo>
                    <a:lnTo>
                      <a:pt x="2494" y="2850"/>
                    </a:lnTo>
                    <a:lnTo>
                      <a:pt x="2472" y="2867"/>
                    </a:lnTo>
                    <a:lnTo>
                      <a:pt x="2448" y="2883"/>
                    </a:lnTo>
                    <a:lnTo>
                      <a:pt x="2425" y="2897"/>
                    </a:lnTo>
                    <a:lnTo>
                      <a:pt x="2402" y="2912"/>
                    </a:lnTo>
                    <a:lnTo>
                      <a:pt x="2379" y="2927"/>
                    </a:lnTo>
                    <a:lnTo>
                      <a:pt x="2355" y="2941"/>
                    </a:lnTo>
                    <a:lnTo>
                      <a:pt x="2331" y="2954"/>
                    </a:lnTo>
                    <a:lnTo>
                      <a:pt x="2306" y="2967"/>
                    </a:lnTo>
                    <a:lnTo>
                      <a:pt x="2283" y="2980"/>
                    </a:lnTo>
                    <a:lnTo>
                      <a:pt x="2257" y="2991"/>
                    </a:lnTo>
                    <a:lnTo>
                      <a:pt x="2232" y="3003"/>
                    </a:lnTo>
                    <a:lnTo>
                      <a:pt x="2208" y="3015"/>
                    </a:lnTo>
                    <a:lnTo>
                      <a:pt x="2182" y="3026"/>
                    </a:lnTo>
                    <a:lnTo>
                      <a:pt x="2157" y="3037"/>
                    </a:lnTo>
                    <a:lnTo>
                      <a:pt x="2131" y="3046"/>
                    </a:lnTo>
                    <a:lnTo>
                      <a:pt x="2106" y="3056"/>
                    </a:lnTo>
                    <a:lnTo>
                      <a:pt x="2080" y="3065"/>
                    </a:lnTo>
                    <a:lnTo>
                      <a:pt x="2054" y="3074"/>
                    </a:lnTo>
                    <a:lnTo>
                      <a:pt x="2027" y="3082"/>
                    </a:lnTo>
                    <a:lnTo>
                      <a:pt x="2001" y="3090"/>
                    </a:lnTo>
                    <a:lnTo>
                      <a:pt x="1974" y="3097"/>
                    </a:lnTo>
                    <a:lnTo>
                      <a:pt x="1948" y="3104"/>
                    </a:lnTo>
                    <a:lnTo>
                      <a:pt x="1920" y="3110"/>
                    </a:lnTo>
                    <a:lnTo>
                      <a:pt x="1893" y="3115"/>
                    </a:lnTo>
                    <a:lnTo>
                      <a:pt x="1866" y="3121"/>
                    </a:lnTo>
                    <a:lnTo>
                      <a:pt x="1839" y="3126"/>
                    </a:lnTo>
                    <a:lnTo>
                      <a:pt x="1812" y="3131"/>
                    </a:lnTo>
                    <a:lnTo>
                      <a:pt x="1785" y="3135"/>
                    </a:lnTo>
                    <a:lnTo>
                      <a:pt x="1757" y="3137"/>
                    </a:lnTo>
                    <a:lnTo>
                      <a:pt x="1730" y="3141"/>
                    </a:lnTo>
                    <a:lnTo>
                      <a:pt x="1703" y="3144"/>
                    </a:lnTo>
                    <a:lnTo>
                      <a:pt x="1676" y="3145"/>
                    </a:lnTo>
                    <a:lnTo>
                      <a:pt x="1649" y="3146"/>
                    </a:lnTo>
                    <a:lnTo>
                      <a:pt x="1620" y="3148"/>
                    </a:lnTo>
                    <a:lnTo>
                      <a:pt x="1593" y="3149"/>
                    </a:lnTo>
                    <a:lnTo>
                      <a:pt x="1566" y="3149"/>
                    </a:lnTo>
                    <a:lnTo>
                      <a:pt x="1537" y="3149"/>
                    </a:lnTo>
                    <a:lnTo>
                      <a:pt x="1510" y="3148"/>
                    </a:lnTo>
                    <a:lnTo>
                      <a:pt x="1483" y="3146"/>
                    </a:lnTo>
                    <a:lnTo>
                      <a:pt x="1456" y="3145"/>
                    </a:lnTo>
                    <a:lnTo>
                      <a:pt x="1429" y="3143"/>
                    </a:lnTo>
                    <a:lnTo>
                      <a:pt x="1400" y="3140"/>
                    </a:lnTo>
                    <a:lnTo>
                      <a:pt x="1373" y="3136"/>
                    </a:lnTo>
                    <a:lnTo>
                      <a:pt x="1346" y="3132"/>
                    </a:lnTo>
                    <a:lnTo>
                      <a:pt x="1319" y="3128"/>
                    </a:lnTo>
                    <a:lnTo>
                      <a:pt x="1292" y="3123"/>
                    </a:lnTo>
                    <a:lnTo>
                      <a:pt x="1264" y="3118"/>
                    </a:lnTo>
                    <a:lnTo>
                      <a:pt x="1237" y="3113"/>
                    </a:lnTo>
                    <a:lnTo>
                      <a:pt x="1211" y="3106"/>
                    </a:lnTo>
                    <a:lnTo>
                      <a:pt x="1184" y="3100"/>
                    </a:lnTo>
                    <a:lnTo>
                      <a:pt x="1157" y="3093"/>
                    </a:lnTo>
                    <a:lnTo>
                      <a:pt x="1131" y="3086"/>
                    </a:lnTo>
                    <a:lnTo>
                      <a:pt x="1105" y="3078"/>
                    </a:lnTo>
                    <a:lnTo>
                      <a:pt x="1078" y="3069"/>
                    </a:lnTo>
                    <a:lnTo>
                      <a:pt x="1052" y="3060"/>
                    </a:lnTo>
                    <a:lnTo>
                      <a:pt x="1026" y="3051"/>
                    </a:lnTo>
                    <a:lnTo>
                      <a:pt x="1000" y="3042"/>
                    </a:lnTo>
                    <a:lnTo>
                      <a:pt x="976" y="3031"/>
                    </a:lnTo>
                    <a:lnTo>
                      <a:pt x="950" y="3020"/>
                    </a:lnTo>
                    <a:lnTo>
                      <a:pt x="925" y="3009"/>
                    </a:lnTo>
                    <a:lnTo>
                      <a:pt x="899" y="2998"/>
                    </a:lnTo>
                    <a:lnTo>
                      <a:pt x="875" y="2986"/>
                    </a:lnTo>
                    <a:lnTo>
                      <a:pt x="850" y="2973"/>
                    </a:lnTo>
                    <a:lnTo>
                      <a:pt x="826" y="2960"/>
                    </a:lnTo>
                    <a:lnTo>
                      <a:pt x="802" y="2947"/>
                    </a:lnTo>
                    <a:lnTo>
                      <a:pt x="778" y="2933"/>
                    </a:lnTo>
                    <a:lnTo>
                      <a:pt x="754" y="2919"/>
                    </a:lnTo>
                    <a:lnTo>
                      <a:pt x="731" y="2905"/>
                    </a:lnTo>
                    <a:lnTo>
                      <a:pt x="708" y="2889"/>
                    </a:lnTo>
                    <a:lnTo>
                      <a:pt x="685" y="2875"/>
                    </a:lnTo>
                    <a:lnTo>
                      <a:pt x="663" y="2858"/>
                    </a:lnTo>
                    <a:lnTo>
                      <a:pt x="641" y="2842"/>
                    </a:lnTo>
                    <a:lnTo>
                      <a:pt x="619" y="2826"/>
                    </a:lnTo>
                    <a:lnTo>
                      <a:pt x="597" y="2809"/>
                    </a:lnTo>
                    <a:lnTo>
                      <a:pt x="575" y="2792"/>
                    </a:lnTo>
                    <a:lnTo>
                      <a:pt x="554" y="2774"/>
                    </a:lnTo>
                    <a:lnTo>
                      <a:pt x="533" y="2756"/>
                    </a:lnTo>
                    <a:lnTo>
                      <a:pt x="512" y="2738"/>
                    </a:lnTo>
                    <a:lnTo>
                      <a:pt x="492" y="2718"/>
                    </a:lnTo>
                    <a:lnTo>
                      <a:pt x="472" y="2700"/>
                    </a:lnTo>
                    <a:lnTo>
                      <a:pt x="453" y="2681"/>
                    </a:lnTo>
                    <a:lnTo>
                      <a:pt x="434" y="2660"/>
                    </a:lnTo>
                    <a:lnTo>
                      <a:pt x="415" y="2641"/>
                    </a:lnTo>
                    <a:lnTo>
                      <a:pt x="396" y="2620"/>
                    </a:lnTo>
                    <a:lnTo>
                      <a:pt x="378" y="2599"/>
                    </a:lnTo>
                    <a:lnTo>
                      <a:pt x="361" y="2579"/>
                    </a:lnTo>
                    <a:lnTo>
                      <a:pt x="343" y="2557"/>
                    </a:lnTo>
                    <a:lnTo>
                      <a:pt x="326" y="2535"/>
                    </a:lnTo>
                    <a:lnTo>
                      <a:pt x="309" y="2513"/>
                    </a:lnTo>
                    <a:lnTo>
                      <a:pt x="294" y="2491"/>
                    </a:lnTo>
                    <a:lnTo>
                      <a:pt x="278" y="2469"/>
                    </a:lnTo>
                    <a:lnTo>
                      <a:pt x="263" y="2445"/>
                    </a:lnTo>
                    <a:lnTo>
                      <a:pt x="247" y="2422"/>
                    </a:lnTo>
                    <a:lnTo>
                      <a:pt x="233" y="2399"/>
                    </a:lnTo>
                    <a:lnTo>
                      <a:pt x="219" y="2376"/>
                    </a:lnTo>
                    <a:lnTo>
                      <a:pt x="204" y="2351"/>
                    </a:lnTo>
                    <a:lnTo>
                      <a:pt x="192" y="2328"/>
                    </a:lnTo>
                    <a:lnTo>
                      <a:pt x="179" y="2303"/>
                    </a:lnTo>
                    <a:lnTo>
                      <a:pt x="166" y="2279"/>
                    </a:lnTo>
                    <a:lnTo>
                      <a:pt x="154" y="2254"/>
                    </a:lnTo>
                    <a:lnTo>
                      <a:pt x="142" y="2229"/>
                    </a:lnTo>
                    <a:lnTo>
                      <a:pt x="131" y="2204"/>
                    </a:lnTo>
                    <a:lnTo>
                      <a:pt x="120" y="2179"/>
                    </a:lnTo>
                    <a:lnTo>
                      <a:pt x="110" y="2153"/>
                    </a:lnTo>
                    <a:lnTo>
                      <a:pt x="100" y="2127"/>
                    </a:lnTo>
                    <a:lnTo>
                      <a:pt x="91" y="2101"/>
                    </a:lnTo>
                    <a:lnTo>
                      <a:pt x="82" y="2075"/>
                    </a:lnTo>
                    <a:lnTo>
                      <a:pt x="72" y="2048"/>
                    </a:lnTo>
                    <a:lnTo>
                      <a:pt x="65" y="2022"/>
                    </a:lnTo>
                    <a:lnTo>
                      <a:pt x="57" y="1997"/>
                    </a:lnTo>
                    <a:lnTo>
                      <a:pt x="50" y="1969"/>
                    </a:lnTo>
                    <a:lnTo>
                      <a:pt x="43" y="1942"/>
                    </a:lnTo>
                    <a:lnTo>
                      <a:pt x="38" y="1916"/>
                    </a:lnTo>
                    <a:lnTo>
                      <a:pt x="31" y="1889"/>
                    </a:lnTo>
                    <a:lnTo>
                      <a:pt x="26" y="1862"/>
                    </a:lnTo>
                    <a:lnTo>
                      <a:pt x="21" y="1835"/>
                    </a:lnTo>
                    <a:lnTo>
                      <a:pt x="17" y="1808"/>
                    </a:lnTo>
                    <a:lnTo>
                      <a:pt x="13" y="1781"/>
                    </a:lnTo>
                    <a:lnTo>
                      <a:pt x="9" y="1753"/>
                    </a:lnTo>
                    <a:lnTo>
                      <a:pt x="6" y="1725"/>
                    </a:lnTo>
                    <a:lnTo>
                      <a:pt x="4" y="1698"/>
                    </a:lnTo>
                    <a:lnTo>
                      <a:pt x="3" y="1671"/>
                    </a:lnTo>
                    <a:lnTo>
                      <a:pt x="1" y="1643"/>
                    </a:lnTo>
                    <a:lnTo>
                      <a:pt x="0" y="1615"/>
                    </a:lnTo>
                    <a:lnTo>
                      <a:pt x="0" y="1588"/>
                    </a:lnTo>
                    <a:lnTo>
                      <a:pt x="0" y="1561"/>
                    </a:lnTo>
                    <a:lnTo>
                      <a:pt x="0" y="1532"/>
                    </a:lnTo>
                    <a:lnTo>
                      <a:pt x="1" y="1505"/>
                    </a:lnTo>
                    <a:lnTo>
                      <a:pt x="3" y="1478"/>
                    </a:lnTo>
                    <a:lnTo>
                      <a:pt x="4" y="1451"/>
                    </a:lnTo>
                    <a:lnTo>
                      <a:pt x="6" y="1422"/>
                    </a:lnTo>
                    <a:lnTo>
                      <a:pt x="9" y="1395"/>
                    </a:lnTo>
                    <a:lnTo>
                      <a:pt x="13" y="1368"/>
                    </a:lnTo>
                    <a:lnTo>
                      <a:pt x="17" y="1341"/>
                    </a:lnTo>
                    <a:lnTo>
                      <a:pt x="21" y="1314"/>
                    </a:lnTo>
                    <a:lnTo>
                      <a:pt x="26" y="1286"/>
                    </a:lnTo>
                    <a:lnTo>
                      <a:pt x="31" y="1259"/>
                    </a:lnTo>
                    <a:lnTo>
                      <a:pt x="38" y="1232"/>
                    </a:lnTo>
                    <a:lnTo>
                      <a:pt x="43" y="1205"/>
                    </a:lnTo>
                    <a:lnTo>
                      <a:pt x="50" y="1179"/>
                    </a:lnTo>
                    <a:lnTo>
                      <a:pt x="57" y="1152"/>
                    </a:lnTo>
                    <a:lnTo>
                      <a:pt x="65" y="1126"/>
                    </a:lnTo>
                    <a:lnTo>
                      <a:pt x="72" y="1099"/>
                    </a:lnTo>
                    <a:lnTo>
                      <a:pt x="82" y="1073"/>
                    </a:lnTo>
                    <a:lnTo>
                      <a:pt x="91" y="1047"/>
                    </a:lnTo>
                    <a:lnTo>
                      <a:pt x="100" y="1021"/>
                    </a:lnTo>
                    <a:lnTo>
                      <a:pt x="110" y="995"/>
                    </a:lnTo>
                    <a:lnTo>
                      <a:pt x="120" y="970"/>
                    </a:lnTo>
                    <a:lnTo>
                      <a:pt x="131" y="945"/>
                    </a:lnTo>
                    <a:lnTo>
                      <a:pt x="142" y="919"/>
                    </a:lnTo>
                    <a:lnTo>
                      <a:pt x="154" y="895"/>
                    </a:lnTo>
                    <a:lnTo>
                      <a:pt x="166" y="870"/>
                    </a:lnTo>
                    <a:lnTo>
                      <a:pt x="179" y="845"/>
                    </a:lnTo>
                    <a:lnTo>
                      <a:pt x="192" y="821"/>
                    </a:lnTo>
                    <a:lnTo>
                      <a:pt x="204" y="796"/>
                    </a:lnTo>
                    <a:lnTo>
                      <a:pt x="219" y="773"/>
                    </a:lnTo>
                    <a:lnTo>
                      <a:pt x="233" y="750"/>
                    </a:lnTo>
                    <a:lnTo>
                      <a:pt x="247" y="726"/>
                    </a:lnTo>
                    <a:lnTo>
                      <a:pt x="263" y="703"/>
                    </a:lnTo>
                    <a:lnTo>
                      <a:pt x="277" y="680"/>
                    </a:lnTo>
                    <a:lnTo>
                      <a:pt x="294" y="658"/>
                    </a:lnTo>
                    <a:lnTo>
                      <a:pt x="309" y="635"/>
                    </a:lnTo>
                    <a:lnTo>
                      <a:pt x="326" y="613"/>
                    </a:lnTo>
                    <a:lnTo>
                      <a:pt x="343" y="592"/>
                    </a:lnTo>
                    <a:lnTo>
                      <a:pt x="361" y="570"/>
                    </a:lnTo>
                    <a:lnTo>
                      <a:pt x="378" y="549"/>
                    </a:lnTo>
                    <a:lnTo>
                      <a:pt x="396" y="529"/>
                    </a:lnTo>
                    <a:lnTo>
                      <a:pt x="415" y="508"/>
                    </a:lnTo>
                    <a:lnTo>
                      <a:pt x="434" y="487"/>
                    </a:lnTo>
                    <a:lnTo>
                      <a:pt x="453" y="468"/>
                    </a:lnTo>
                    <a:lnTo>
                      <a:pt x="472" y="448"/>
                    </a:lnTo>
                    <a:lnTo>
                      <a:pt x="492" y="429"/>
                    </a:lnTo>
                    <a:lnTo>
                      <a:pt x="512" y="411"/>
                    </a:lnTo>
                    <a:lnTo>
                      <a:pt x="533" y="393"/>
                    </a:lnTo>
                    <a:lnTo>
                      <a:pt x="554" y="375"/>
                    </a:lnTo>
                    <a:lnTo>
                      <a:pt x="575" y="357"/>
                    </a:lnTo>
                    <a:lnTo>
                      <a:pt x="597" y="340"/>
                    </a:lnTo>
                    <a:lnTo>
                      <a:pt x="619" y="323"/>
                    </a:lnTo>
                    <a:lnTo>
                      <a:pt x="641" y="306"/>
                    </a:lnTo>
                    <a:lnTo>
                      <a:pt x="663" y="289"/>
                    </a:lnTo>
                    <a:lnTo>
                      <a:pt x="685" y="274"/>
                    </a:lnTo>
                    <a:lnTo>
                      <a:pt x="708" y="258"/>
                    </a:lnTo>
                    <a:lnTo>
                      <a:pt x="731" y="244"/>
                    </a:lnTo>
                    <a:lnTo>
                      <a:pt x="754" y="228"/>
                    </a:lnTo>
                    <a:lnTo>
                      <a:pt x="778" y="214"/>
                    </a:lnTo>
                    <a:lnTo>
                      <a:pt x="802" y="201"/>
                    </a:lnTo>
                    <a:lnTo>
                      <a:pt x="826" y="188"/>
                    </a:lnTo>
                    <a:lnTo>
                      <a:pt x="850" y="175"/>
                    </a:lnTo>
                    <a:lnTo>
                      <a:pt x="875" y="163"/>
                    </a:lnTo>
                    <a:lnTo>
                      <a:pt x="899" y="151"/>
                    </a:lnTo>
                    <a:lnTo>
                      <a:pt x="924" y="139"/>
                    </a:lnTo>
                    <a:lnTo>
                      <a:pt x="950" y="128"/>
                    </a:lnTo>
                    <a:lnTo>
                      <a:pt x="976" y="117"/>
                    </a:lnTo>
                    <a:lnTo>
                      <a:pt x="1000" y="107"/>
                    </a:lnTo>
                    <a:lnTo>
                      <a:pt x="1026" y="97"/>
                    </a:lnTo>
                    <a:lnTo>
                      <a:pt x="1052" y="87"/>
                    </a:lnTo>
                    <a:lnTo>
                      <a:pt x="1078" y="78"/>
                    </a:lnTo>
                    <a:lnTo>
                      <a:pt x="1105" y="71"/>
                    </a:lnTo>
                    <a:lnTo>
                      <a:pt x="1131" y="63"/>
                    </a:lnTo>
                    <a:lnTo>
                      <a:pt x="1157" y="55"/>
                    </a:lnTo>
                    <a:lnTo>
                      <a:pt x="1184" y="47"/>
                    </a:lnTo>
                    <a:lnTo>
                      <a:pt x="1211" y="41"/>
                    </a:lnTo>
                    <a:lnTo>
                      <a:pt x="1237" y="36"/>
                    </a:lnTo>
                    <a:lnTo>
                      <a:pt x="1264" y="29"/>
                    </a:lnTo>
                    <a:lnTo>
                      <a:pt x="1292" y="24"/>
                    </a:lnTo>
                    <a:lnTo>
                      <a:pt x="1319" y="20"/>
                    </a:lnTo>
                    <a:lnTo>
                      <a:pt x="1346" y="15"/>
                    </a:lnTo>
                    <a:lnTo>
                      <a:pt x="1373" y="12"/>
                    </a:lnTo>
                    <a:lnTo>
                      <a:pt x="1400" y="9"/>
                    </a:lnTo>
                    <a:lnTo>
                      <a:pt x="1427" y="6"/>
                    </a:lnTo>
                    <a:lnTo>
                      <a:pt x="1456" y="3"/>
                    </a:lnTo>
                    <a:lnTo>
                      <a:pt x="1483" y="2"/>
                    </a:lnTo>
                    <a:lnTo>
                      <a:pt x="1510" y="1"/>
                    </a:lnTo>
                    <a:lnTo>
                      <a:pt x="1537" y="0"/>
                    </a:lnTo>
                    <a:lnTo>
                      <a:pt x="1566" y="0"/>
                    </a:lnTo>
                    <a:lnTo>
                      <a:pt x="1593" y="0"/>
                    </a:lnTo>
                    <a:lnTo>
                      <a:pt x="1620" y="0"/>
                    </a:lnTo>
                    <a:lnTo>
                      <a:pt x="1647" y="1"/>
                    </a:lnTo>
                    <a:lnTo>
                      <a:pt x="1676" y="2"/>
                    </a:lnTo>
                    <a:lnTo>
                      <a:pt x="1703" y="5"/>
                    </a:lnTo>
                    <a:lnTo>
                      <a:pt x="1730" y="7"/>
                    </a:lnTo>
                    <a:lnTo>
                      <a:pt x="1757" y="10"/>
                    </a:lnTo>
                    <a:lnTo>
                      <a:pt x="1785" y="14"/>
                    </a:lnTo>
                    <a:lnTo>
                      <a:pt x="1812" y="18"/>
                    </a:lnTo>
                    <a:lnTo>
                      <a:pt x="1839" y="22"/>
                    </a:lnTo>
                    <a:lnTo>
                      <a:pt x="1866" y="27"/>
                    </a:lnTo>
                    <a:lnTo>
                      <a:pt x="1893" y="32"/>
                    </a:lnTo>
                    <a:lnTo>
                      <a:pt x="1920" y="38"/>
                    </a:lnTo>
                    <a:lnTo>
                      <a:pt x="1948" y="45"/>
                    </a:lnTo>
                    <a:lnTo>
                      <a:pt x="1974" y="51"/>
                    </a:lnTo>
                    <a:lnTo>
                      <a:pt x="2001" y="59"/>
                    </a:lnTo>
                    <a:lnTo>
                      <a:pt x="2027" y="67"/>
                    </a:lnTo>
                    <a:lnTo>
                      <a:pt x="2054" y="75"/>
                    </a:lnTo>
                    <a:lnTo>
                      <a:pt x="2080" y="84"/>
                    </a:lnTo>
                    <a:lnTo>
                      <a:pt x="2106" y="93"/>
                    </a:lnTo>
                    <a:lnTo>
                      <a:pt x="2131" y="102"/>
                    </a:lnTo>
                    <a:lnTo>
                      <a:pt x="2157" y="112"/>
                    </a:lnTo>
                    <a:lnTo>
                      <a:pt x="2182" y="122"/>
                    </a:lnTo>
                    <a:lnTo>
                      <a:pt x="2208" y="133"/>
                    </a:lnTo>
                    <a:lnTo>
                      <a:pt x="2232" y="144"/>
                    </a:lnTo>
                    <a:lnTo>
                      <a:pt x="2257" y="156"/>
                    </a:lnTo>
                    <a:lnTo>
                      <a:pt x="2282" y="169"/>
                    </a:lnTo>
                    <a:lnTo>
                      <a:pt x="2306" y="182"/>
                    </a:lnTo>
                    <a:lnTo>
                      <a:pt x="2331" y="195"/>
                    </a:lnTo>
                    <a:lnTo>
                      <a:pt x="2355" y="208"/>
                    </a:lnTo>
                    <a:lnTo>
                      <a:pt x="2379" y="222"/>
                    </a:lnTo>
                    <a:lnTo>
                      <a:pt x="2402" y="236"/>
                    </a:lnTo>
                    <a:lnTo>
                      <a:pt x="2425" y="250"/>
                    </a:lnTo>
                    <a:lnTo>
                      <a:pt x="2448" y="266"/>
                    </a:lnTo>
                    <a:lnTo>
                      <a:pt x="2470" y="282"/>
                    </a:lnTo>
                    <a:lnTo>
                      <a:pt x="2494" y="297"/>
                    </a:lnTo>
                    <a:lnTo>
                      <a:pt x="2516" y="314"/>
                    </a:lnTo>
                    <a:lnTo>
                      <a:pt x="2538" y="331"/>
                    </a:lnTo>
                    <a:lnTo>
                      <a:pt x="2560" y="347"/>
                    </a:lnTo>
                    <a:lnTo>
                      <a:pt x="2580" y="366"/>
                    </a:lnTo>
                    <a:lnTo>
                      <a:pt x="2601" y="384"/>
                    </a:lnTo>
                    <a:lnTo>
                      <a:pt x="2622" y="402"/>
                    </a:lnTo>
                    <a:lnTo>
                      <a:pt x="2643" y="420"/>
                    </a:lnTo>
                    <a:lnTo>
                      <a:pt x="2662" y="439"/>
                    </a:lnTo>
                    <a:lnTo>
                      <a:pt x="2683" y="457"/>
                    </a:lnTo>
                    <a:lnTo>
                      <a:pt x="2702" y="478"/>
                    </a:lnTo>
                    <a:lnTo>
                      <a:pt x="2720" y="498"/>
                    </a:lnTo>
                    <a:lnTo>
                      <a:pt x="2740" y="518"/>
                    </a:lnTo>
                    <a:lnTo>
                      <a:pt x="2758" y="539"/>
                    </a:lnTo>
                    <a:lnTo>
                      <a:pt x="2776" y="560"/>
                    </a:lnTo>
                    <a:lnTo>
                      <a:pt x="2793" y="580"/>
                    </a:lnTo>
                    <a:lnTo>
                      <a:pt x="2809" y="602"/>
                    </a:lnTo>
                    <a:lnTo>
                      <a:pt x="2826" y="624"/>
                    </a:lnTo>
                    <a:lnTo>
                      <a:pt x="2843" y="646"/>
                    </a:lnTo>
                    <a:lnTo>
                      <a:pt x="2859" y="668"/>
                    </a:lnTo>
                    <a:lnTo>
                      <a:pt x="2875" y="692"/>
                    </a:lnTo>
                    <a:lnTo>
                      <a:pt x="2890" y="715"/>
                    </a:lnTo>
                    <a:lnTo>
                      <a:pt x="2905" y="737"/>
                    </a:lnTo>
                    <a:lnTo>
                      <a:pt x="2919" y="761"/>
                    </a:lnTo>
                    <a:lnTo>
                      <a:pt x="2934" y="785"/>
                    </a:lnTo>
                    <a:lnTo>
                      <a:pt x="2947" y="809"/>
                    </a:lnTo>
                    <a:lnTo>
                      <a:pt x="2960" y="833"/>
                    </a:lnTo>
                    <a:lnTo>
                      <a:pt x="2973" y="857"/>
                    </a:lnTo>
                    <a:lnTo>
                      <a:pt x="2985" y="882"/>
                    </a:lnTo>
                    <a:lnTo>
                      <a:pt x="2997" y="906"/>
                    </a:lnTo>
                    <a:lnTo>
                      <a:pt x="3009" y="932"/>
                    </a:lnTo>
                    <a:lnTo>
                      <a:pt x="3019" y="957"/>
                    </a:lnTo>
                    <a:lnTo>
                      <a:pt x="3029" y="983"/>
                    </a:lnTo>
                    <a:lnTo>
                      <a:pt x="3040" y="1008"/>
                    </a:lnTo>
                    <a:lnTo>
                      <a:pt x="3050" y="1034"/>
                    </a:lnTo>
                    <a:lnTo>
                      <a:pt x="3059" y="1060"/>
                    </a:lnTo>
                    <a:lnTo>
                      <a:pt x="3068" y="1086"/>
                    </a:lnTo>
                    <a:lnTo>
                      <a:pt x="3076" y="1112"/>
                    </a:lnTo>
                    <a:lnTo>
                      <a:pt x="3084" y="1139"/>
                    </a:lnTo>
                    <a:lnTo>
                      <a:pt x="3092" y="1165"/>
                    </a:lnTo>
                    <a:lnTo>
                      <a:pt x="3098" y="1192"/>
                    </a:lnTo>
                    <a:lnTo>
                      <a:pt x="3105" y="1219"/>
                    </a:lnTo>
                    <a:lnTo>
                      <a:pt x="3111" y="1245"/>
                    </a:lnTo>
                    <a:lnTo>
                      <a:pt x="3116" y="1272"/>
                    </a:lnTo>
                    <a:lnTo>
                      <a:pt x="3121" y="1299"/>
                    </a:lnTo>
                    <a:lnTo>
                      <a:pt x="3125" y="1327"/>
                    </a:lnTo>
                    <a:lnTo>
                      <a:pt x="3130" y="1354"/>
                    </a:lnTo>
                    <a:lnTo>
                      <a:pt x="3133" y="1382"/>
                    </a:lnTo>
                    <a:lnTo>
                      <a:pt x="3137" y="1409"/>
                    </a:lnTo>
                    <a:lnTo>
                      <a:pt x="3139" y="1437"/>
                    </a:lnTo>
                    <a:lnTo>
                      <a:pt x="3141" y="1464"/>
                    </a:lnTo>
                    <a:lnTo>
                      <a:pt x="3143" y="1491"/>
                    </a:lnTo>
                    <a:lnTo>
                      <a:pt x="3145" y="1519"/>
                    </a:lnTo>
                    <a:lnTo>
                      <a:pt x="3145" y="1546"/>
                    </a:lnTo>
                    <a:lnTo>
                      <a:pt x="3145" y="1574"/>
                    </a:lnTo>
                    <a:close/>
                  </a:path>
                </a:pathLst>
              </a:custGeom>
              <a:solidFill>
                <a:srgbClr val="ffffff"/>
              </a:solidFill>
              <a:ln w="81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58840" y="5823720"/>
                <a:ext cx="365040" cy="365040"/>
              </a:xfrm>
              <a:prstGeom prst="ellipse">
                <a:avLst/>
              </a:prstGeom>
              <a:solidFill>
                <a:srgbClr val="0000ff"/>
              </a:solidFill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13160" y="5823720"/>
                <a:ext cx="364680" cy="365040"/>
              </a:xfrm>
              <a:prstGeom prst="ellipse">
                <a:avLst/>
              </a:prstGeom>
              <a:solidFill>
                <a:srgbClr val="0000ff"/>
              </a:solidFill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55960" y="5823720"/>
                <a:ext cx="364680" cy="365040"/>
              </a:xfrm>
              <a:prstGeom prst="ellipse">
                <a:avLst/>
              </a:prstGeom>
              <a:solidFill>
                <a:srgbClr val="0000ff"/>
              </a:solidFill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48040" y="4757040"/>
                <a:ext cx="1250640" cy="124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48040" y="4757040"/>
                <a:ext cx="1250640" cy="1249200"/>
              </a:xfrm>
              <a:prstGeom prst="rect">
                <a:avLst/>
              </a:prstGeom>
              <a:noFill/>
              <a:ln w="810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00440" y="4882320"/>
                <a:ext cx="497880" cy="250560"/>
              </a:xfrm>
              <a:prstGeom prst="rect">
                <a:avLst/>
              </a:prstGeom>
              <a:noFill/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48040" y="4474440"/>
                <a:ext cx="1002960" cy="501480"/>
              </a:xfrm>
              <a:custGeom>
                <a:avLst/>
                <a:gdLst/>
                <a:ahLst/>
                <a:rect l="l" t="t" r="r" b="b"/>
                <a:pathLst>
                  <a:path w="2526" h="1262">
                    <a:moveTo>
                      <a:pt x="0" y="1262"/>
                    </a:moveTo>
                    <a:lnTo>
                      <a:pt x="948" y="0"/>
                    </a:lnTo>
                    <a:lnTo>
                      <a:pt x="2526" y="1262"/>
                    </a:lnTo>
                  </a:path>
                </a:pathLst>
              </a:custGeom>
              <a:noFill/>
              <a:ln w="81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21040" y="4828320"/>
                <a:ext cx="301320" cy="279360"/>
              </a:xfrm>
              <a:custGeom>
                <a:avLst/>
                <a:gdLst/>
                <a:ahLst/>
                <a:rect l="l" t="t" r="r" b="b"/>
                <a:pathLst>
                  <a:path w="762" h="706">
                    <a:moveTo>
                      <a:pt x="260" y="706"/>
                    </a:moveTo>
                    <a:lnTo>
                      <a:pt x="0" y="553"/>
                    </a:lnTo>
                    <a:lnTo>
                      <a:pt x="446" y="0"/>
                    </a:lnTo>
                    <a:lnTo>
                      <a:pt x="762" y="183"/>
                    </a:lnTo>
                  </a:path>
                </a:pathLst>
              </a:custGeom>
              <a:noFill/>
              <a:ln w="81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71800" y="4344480"/>
                <a:ext cx="228240" cy="272520"/>
              </a:xfrm>
              <a:custGeom>
                <a:avLst/>
                <a:gdLst/>
                <a:ahLst/>
                <a:rect l="l" t="t" r="r" b="b"/>
                <a:pathLst>
                  <a:path w="576" h="687">
                    <a:moveTo>
                      <a:pt x="341" y="687"/>
                    </a:moveTo>
                    <a:lnTo>
                      <a:pt x="0" y="554"/>
                    </a:lnTo>
                    <a:lnTo>
                      <a:pt x="286" y="0"/>
                    </a:lnTo>
                    <a:lnTo>
                      <a:pt x="576" y="77"/>
                    </a:lnTo>
                  </a:path>
                </a:pathLst>
              </a:custGeom>
              <a:noFill/>
              <a:ln w="81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4843440" y="4444920"/>
              <a:ext cx="20952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72C-36E3-4178-B715-6CA368B9D0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State Transition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(x|u,x’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“close door”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door is open, the action “close door” succeeds in 90% of all ca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04880" y="2384280"/>
            <a:ext cx="7772400" cy="20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596-DB57-43FD-9E66-03B87B52AA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Integrating the Outcome of Action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50960" y="2031840"/>
                <a:ext cx="8099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'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820800" y="4502160"/>
                <a:ext cx="75787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847800" y="1276200"/>
            <a:ext cx="303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c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rete c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600-1AF1-410F-AB33-9C7695F1AC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Example: The Resulting Belief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936720" y="1143000"/>
                <a:ext cx="6451560" cy="544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losed</m:t>
                            </m:r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pen</m:t>
                            </m:r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en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losed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549-2AFF-489B-B92B-97736229FD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ayes Filters: Framework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am of observation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action dat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Sensor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(z|x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Action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(x|u,x’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Pri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bability of the system stat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(x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Wanted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e of the stat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dynamical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sterior of the state is also called</a:t>
            </a: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 Belie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432160" y="5448240"/>
                <a:ext cx="43146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159000" y="2158920"/>
                <a:ext cx="28879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DE1-57F1-4F9E-BD19-2727381772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5388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Markov Assumption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6000" y="4555800"/>
            <a:ext cx="72676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Underlying Assum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ic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no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ect model, no approximation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886040" y="3930480"/>
                <a:ext cx="528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00160" y="3392640"/>
                <a:ext cx="4595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: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63560" y="1036800"/>
            <a:ext cx="5626080" cy="236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B52-D2FD-42CC-B6C6-AFC0FEBF01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304920" y="1295280"/>
            <a:ext cx="7099200" cy="5295960"/>
            <a:chOff x="304920" y="1295280"/>
            <a:chExt cx="7099200" cy="5295960"/>
          </a:xfrm>
        </p:grpSpPr>
        <p:sp>
          <p:nvSpPr>
            <p:cNvPr id="217" name=""/>
            <p:cNvSpPr/>
            <p:nvPr/>
          </p:nvSpPr>
          <p:spPr>
            <a:xfrm>
              <a:off x="1359000" y="5969160"/>
              <a:ext cx="6045120" cy="622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1295280"/>
              <a:ext cx="1079280" cy="546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94000" y="5970600"/>
                <a:ext cx="59036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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96880" y="315720"/>
            <a:ext cx="842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ayes Filter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-14400" y="1927080"/>
            <a:ext cx="7515360" cy="528840"/>
            <a:chOff x="-14400" y="1927080"/>
            <a:chExt cx="7515360" cy="52884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1420920" y="1927080"/>
                  <a:ext cx="6080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η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"/>
            <p:cNvSpPr/>
            <p:nvPr/>
          </p:nvSpPr>
          <p:spPr>
            <a:xfrm>
              <a:off x="-14400" y="20034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Ba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239240" y="44280"/>
            <a:ext cx="1685160" cy="824040"/>
          </a:xfrm>
          <a:prstGeom prst="rect">
            <a:avLst/>
          </a:prstGeom>
          <a:solidFill>
            <a:srgbClr val="b8b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cc"/>
                </a:solidFill>
                <a:latin typeface="Verdana"/>
              </a:rPr>
              <a:t>z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 = ob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Verdana"/>
              </a:rPr>
              <a:t>u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=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33cc"/>
                </a:solidFill>
                <a:latin typeface="Verdana"/>
              </a:rPr>
              <a:t>x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  =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04920" y="1308240"/>
                <a:ext cx="422892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-20160" y="2625840"/>
            <a:ext cx="5855760" cy="528480"/>
            <a:chOff x="-20160" y="2625840"/>
            <a:chExt cx="5855760" cy="528480"/>
          </a:xfrm>
        </p:grpSpPr>
        <p:sp>
          <p:nvSpPr>
            <p:cNvPr id="227" name=""/>
            <p:cNvSpPr/>
            <p:nvPr/>
          </p:nvSpPr>
          <p:spPr>
            <a:xfrm>
              <a:off x="-20160" y="269568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ark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1401840" y="2625840"/>
                  <a:ext cx="443376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η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-20160" y="4433760"/>
            <a:ext cx="8880120" cy="646200"/>
            <a:chOff x="-20160" y="4433760"/>
            <a:chExt cx="8880120" cy="646200"/>
          </a:xfrm>
        </p:grpSpPr>
        <p:sp>
          <p:nvSpPr>
            <p:cNvPr id="230" name=""/>
            <p:cNvSpPr/>
            <p:nvPr/>
          </p:nvSpPr>
          <p:spPr>
            <a:xfrm>
              <a:off x="-20160" y="454968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ark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1488960" y="4433760"/>
                  <a:ext cx="737100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η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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-35280" y="3162240"/>
            <a:ext cx="6737760" cy="1233720"/>
            <a:chOff x="-35280" y="3162240"/>
            <a:chExt cx="6737760" cy="1233720"/>
          </a:xfrm>
        </p:grpSpPr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1415880" y="3162240"/>
                  <a:ext cx="5286600" cy="123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=</m:t>
                          </m:r>
                          <m:r>
                            <m:t xml:space="preserve">η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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…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…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-35280" y="338148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Total pro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-7200" y="5132520"/>
            <a:ext cx="9082800" cy="645840"/>
            <a:chOff x="-7200" y="5132520"/>
            <a:chExt cx="9082800" cy="645840"/>
          </a:xfrm>
        </p:grpSpPr>
        <p:sp>
          <p:nvSpPr>
            <p:cNvPr id="236" name=""/>
            <p:cNvSpPr/>
            <p:nvPr/>
          </p:nvSpPr>
          <p:spPr>
            <a:xfrm>
              <a:off x="-7200" y="524844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ark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500120" y="5132520"/>
                  <a:ext cx="757548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η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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E80-5F64-4F6F-9CDE-AD9A42CD25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71600" y="1306080"/>
            <a:ext cx="85500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notes probability that propositi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xioms of Probability Theo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57280" y="2441520"/>
                <a:ext cx="24433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20920" y="3476520"/>
                <a:ext cx="2327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ru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38200" y="4524480"/>
                <a:ext cx="702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168880" y="3460680"/>
                <a:ext cx="2583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42A-93EF-4C79-973B-586380C695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752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ayes Filter Algorithm 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63680" y="1573200"/>
            <a:ext cx="818820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04B-8374-4DE3-BF1A-DC5026EAF5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1280" y="13060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dic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rrec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09120" y="31860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Verdana"/>
              </a:rPr>
              <a:t>Bayes Filter Reminder</a:t>
            </a:r>
            <a:endParaRPr b="1" lang="en-US" sz="4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003320" y="2262240"/>
                <a:ext cx="70531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074600" y="4411800"/>
                <a:ext cx="5389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FFE-C4DA-4DA8-9548-F3B9F40206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Summary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244160"/>
            <a:ext cx="841392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yes rule allows us to compute probabilities that are hard to assess otherwi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 the Markov assumption, recursive Bayesian updating can be used to efficiently combine eviden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yes filters are a probabilistic tool for estimating the state of dynamic syste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533-DADF-42EF-87E1-C43C9ACC6A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 Closer Look at Axiom 3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28800" y="2438280"/>
            <a:ext cx="4699080" cy="3340080"/>
            <a:chOff x="1828800" y="2438280"/>
            <a:chExt cx="4699080" cy="3340080"/>
          </a:xfrm>
        </p:grpSpPr>
        <p:sp>
          <p:nvSpPr>
            <p:cNvPr id="95" name=""/>
            <p:cNvSpPr/>
            <p:nvPr/>
          </p:nvSpPr>
          <p:spPr>
            <a:xfrm>
              <a:off x="1828800" y="2438280"/>
              <a:ext cx="4699080" cy="334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63840" y="3124080"/>
              <a:ext cx="1943280" cy="19432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6200" y="3124080"/>
              <a:ext cx="1943280" cy="19432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3791160" y="2851200"/>
                  <a:ext cx="78084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∧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710080" y="2736720"/>
                  <a:ext cx="30132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5364360" y="2787840"/>
                  <a:ext cx="30168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1873440" y="2482920"/>
                  <a:ext cx="65412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rue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41320" y="1387440"/>
                <a:ext cx="702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6EC-A3D1-46D4-8874-54F427E352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Using the Axiom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82640" y="2451240"/>
                <a:ext cx="7558200" cy="23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∨</m:t>
                          </m:r>
                          <m:r>
                            <m:t xml:space="preserve">¬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¬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∧</m:t>
                          </m:r>
                          <m:r>
                            <m:t xml:space="preserve">¬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True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¬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False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¬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¬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021-12C4-46E3-85B8-9DFE64B687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iscrete Random Variabl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466640"/>
            <a:ext cx="85280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X</a:t>
            </a:r>
            <a:r>
              <a:rPr b="0" i="1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notes a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random vari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X</a:t>
            </a:r>
            <a:r>
              <a:rPr b="0" i="1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take on a countable number of values in {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P(X=x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Verdana"/>
              </a:rPr>
              <a:t>i</a:t>
            </a: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P(x</a:t>
            </a:r>
            <a:r>
              <a:rPr b="0" i="1" lang="en-US" sz="3200" spc="-1" strike="noStrike" baseline="-25000">
                <a:solidFill>
                  <a:srgbClr val="cc3300"/>
                </a:solidFill>
                <a:latin typeface="Verdana"/>
              </a:rPr>
              <a:t>i</a:t>
            </a: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is the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at the random variabl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akes on valu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Verdana"/>
              </a:rPr>
              <a:t>P( 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called 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probability mass func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284120" y="5394240"/>
            <a:ext cx="28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DE8-689B-4288-BA46-5D274BDEAE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79800"/>
            <a:ext cx="8425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ntinuous Random Variabl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1466640"/>
            <a:ext cx="84517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Verdana"/>
              </a:rPr>
              <a:t>X</a:t>
            </a:r>
            <a:r>
              <a:rPr b="0" i="1" lang="en-US" sz="2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s on values in the continu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Verdana"/>
              </a:rPr>
              <a:t>p(X=x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2800" spc="-1" strike="noStrike">
                <a:solidFill>
                  <a:srgbClr val="cc3300"/>
                </a:solidFill>
                <a:latin typeface="Verdana"/>
              </a:rPr>
              <a:t>p(x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is a 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probability density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27200" y="2905200"/>
                <a:ext cx="36194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228840" y="5956200"/>
            <a:ext cx="4734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228840" y="4146120"/>
            <a:ext cx="0" cy="18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19480" y="4856040"/>
            <a:ext cx="4309920" cy="893880"/>
          </a:xfrm>
          <a:custGeom>
            <a:avLst/>
            <a:gdLst/>
            <a:ahLst/>
            <a:rect l="l" t="t" r="r" b="b"/>
            <a:pathLst>
              <a:path w="1828" h="403">
                <a:moveTo>
                  <a:pt x="0" y="403"/>
                </a:moveTo>
                <a:cubicBezTo>
                  <a:pt x="100" y="371"/>
                  <a:pt x="201" y="340"/>
                  <a:pt x="320" y="279"/>
                </a:cubicBezTo>
                <a:cubicBezTo>
                  <a:pt x="439" y="218"/>
                  <a:pt x="596" y="78"/>
                  <a:pt x="712" y="39"/>
                </a:cubicBezTo>
                <a:cubicBezTo>
                  <a:pt x="828" y="0"/>
                  <a:pt x="911" y="8"/>
                  <a:pt x="1016" y="47"/>
                </a:cubicBezTo>
                <a:cubicBezTo>
                  <a:pt x="1121" y="86"/>
                  <a:pt x="1205" y="212"/>
                  <a:pt x="1340" y="271"/>
                </a:cubicBezTo>
                <a:cubicBezTo>
                  <a:pt x="1475" y="330"/>
                  <a:pt x="1747" y="381"/>
                  <a:pt x="1828" y="403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8560" y="4878360"/>
            <a:ext cx="4300560" cy="939960"/>
          </a:xfrm>
          <a:custGeom>
            <a:avLst/>
            <a:gdLst/>
            <a:ahLst/>
            <a:rect l="l" t="t" r="r" b="b"/>
            <a:pathLst>
              <a:path w="2709" h="592">
                <a:moveTo>
                  <a:pt x="0" y="479"/>
                </a:moveTo>
                <a:cubicBezTo>
                  <a:pt x="35" y="456"/>
                  <a:pt x="117" y="404"/>
                  <a:pt x="208" y="343"/>
                </a:cubicBezTo>
                <a:cubicBezTo>
                  <a:pt x="299" y="282"/>
                  <a:pt x="423" y="99"/>
                  <a:pt x="544" y="111"/>
                </a:cubicBezTo>
                <a:cubicBezTo>
                  <a:pt x="665" y="123"/>
                  <a:pt x="745" y="430"/>
                  <a:pt x="937" y="413"/>
                </a:cubicBezTo>
                <a:cubicBezTo>
                  <a:pt x="1129" y="396"/>
                  <a:pt x="1504" y="0"/>
                  <a:pt x="1696" y="7"/>
                </a:cubicBezTo>
                <a:cubicBezTo>
                  <a:pt x="1888" y="14"/>
                  <a:pt x="1919" y="358"/>
                  <a:pt x="2088" y="455"/>
                </a:cubicBezTo>
                <a:cubicBezTo>
                  <a:pt x="2257" y="552"/>
                  <a:pt x="2580" y="564"/>
                  <a:pt x="2709" y="592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2000" y="5934240"/>
            <a:ext cx="290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3440" y="4219560"/>
            <a:ext cx="557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DD8-DA68-4DC1-9EC9-AFCDE72F11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44100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Joint and Conditional Probability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293480"/>
            <a:ext cx="8410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X=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Y=y) = P(x,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104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X and Y are 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x,y) = P(x) P(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104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x | y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probability of </a:t>
            </a:r>
            <a:r>
              <a:rPr b="0" i="1" lang="en-US" sz="2800" spc="-1" strike="noStrike">
                <a:solidFill>
                  <a:srgbClr val="0033cc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 given</a:t>
            </a:r>
            <a:r>
              <a:rPr b="0" i="1" lang="en-US" sz="2800" spc="-1" strike="noStrike">
                <a:solidFill>
                  <a:srgbClr val="0033cc"/>
                </a:solidFill>
                <a:latin typeface="Verdana"/>
              </a:rPr>
              <a:t> 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x | y) = P(x,y) / P(y)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x,y)   = P(x | y) P(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1049"/>
              </a:spcBef>
              <a:buClr>
                <a:srgbClr val="0033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X and Y are 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(x | y) = 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959-C3B6-460C-910C-9F1F06843A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3240"/>
            <a:ext cx="8577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Law of Total Probability, Marginal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14440" y="3591000"/>
                <a:ext cx="2998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14440" y="4975200"/>
                <a:ext cx="38955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14440" y="2368440"/>
                <a:ext cx="1773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10920" y="1365120"/>
            <a:ext cx="2524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Discret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950000" y="2368440"/>
                <a:ext cx="19587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059080" y="1365120"/>
            <a:ext cx="3094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Continuous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0000" y="4975200"/>
                <a:ext cx="4103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0000" y="3591000"/>
                <a:ext cx="3206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A56-1134-43D1-928D-419864A600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3T15:49:16Z</dcterms:created>
  <dc:creator>SCS</dc:creator>
  <dc:description/>
  <dc:language>en-US</dc:language>
  <cp:lastModifiedBy>-</cp:lastModifiedBy>
  <dcterms:modified xsi:type="dcterms:W3CDTF">2011-08-18T17:58:26Z</dcterms:modified>
  <cp:revision>1334</cp:revision>
  <dc:subject/>
  <dc:title>Probabilistic Robotics</dc:title>
</cp:coreProperties>
</file>